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B89-B78C-43D3-AF2F-92B1B97B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9CE-81AA-4B72-BC17-5BC06A06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D8C-8698-4D8F-AE98-65DBDCC8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23E-0AB0-4676-B93D-9945A6D2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AE0E-64C8-4F01-92E2-D1936301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64D6-28A0-43E2-9B10-F11B2104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4E4-F522-4C43-8947-83E772B1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6C66-557F-4C04-AE6D-8DD6F958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5B86-604B-472D-814B-AD128FF9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2B21-5B1B-4459-9910-E2461F9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03F-4066-42E3-AD49-8937418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9F0-373C-411B-A7AC-D268312F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E84-A899-4E4A-9D41-074BE3D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99D0-4231-4241-9CAE-2ECE774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78F4-99FE-4562-AC59-CD3CE0F8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5160-2EDD-425A-9C06-3074D3BB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F376-2A8B-4B02-9324-6B168294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7A9-88F2-402A-A6E1-5791B9B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FB9-B4BE-44CD-8419-5C450FE3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EEF-06E1-40CF-B38A-6F82D30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7B7-86DC-4F18-BBC9-D4606E5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3BA-B961-4D02-94E3-A0044B9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C6F-5B38-4BAD-9658-8760273D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52F-2B9A-4C23-BD0C-3328DF8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F485-A59B-47B3-8512-E181AF21F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FEA2-4C12-41D2-9D42-CD07B1B7C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Verdana"/>
              </a:rPr>
              <a:t>Nathan Hal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Verdana"/>
              </a:rPr>
              <a:t>By Tiffany Simp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amp Featuring The Great Patri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338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gic Death For Mr. Hale, At 21 Year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2670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han Hale In A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ud Standing Statue Of Mr. H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019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Unmarked Grave Ston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29397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moriam of Nathan H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0004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 School House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576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3:14:13Z</dcterms:created>
  <dc:creator>Milford Public Schools</dc:creator>
  <dc:description/>
  <dc:language>en-US</dc:language>
  <cp:lastModifiedBy>Milford Public Schools</cp:lastModifiedBy>
  <dcterms:modified xsi:type="dcterms:W3CDTF">2007-11-28T13:23:46Z</dcterms:modified>
  <cp:revision>2</cp:revision>
  <dc:subject/>
  <dc:title>Nathan Hale </dc:title>
</cp:coreProperties>
</file>